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9E12-60C0-48F9-AF3B-2A4B5A1EE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746D-488D-4AD2-988A-60CDDD640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11F2-FFC2-403A-933A-C6E8D6831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FE37-63C5-4F94-B167-A6F59EC25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F3C7-5839-490D-88DA-933FFA099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FCAD-D1D3-491C-89B7-85DA7AC73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1B0F-A99D-4B27-A00C-8C01098F9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8B71-4DC9-4EC6-9303-FCA191087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D9FD-7D3F-4336-B3FB-322C054C8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7DB2-D442-416A-9F9F-4C440460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1682-3CBC-4585-BF6D-F456958F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346B-EBCC-4F93-9ABA-BF78A834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C38117-0119-47F7-8EDB-55CFD0968F6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ne Point Perspect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Arial"/>
              </a:rPr>
              <a:t>“</a:t>
            </a:r>
            <a:r>
              <a:rPr b="1" lang="en-GB" sz="2800" spc="-1" strike="noStrike">
                <a:solidFill>
                  <a:srgbClr val="ff6600"/>
                </a:solidFill>
                <a:latin typeface="Arial"/>
              </a:rPr>
              <a:t>Name Projec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lock Le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* Vanishing point anyw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* Draw lightly.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FILL THE P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ach letter has a different </a:t>
            </a:r>
            <a:r>
              <a:rPr b="1" lang="en-GB" sz="2800" spc="-1" strike="noStrike">
                <a:solidFill>
                  <a:srgbClr val="000000"/>
                </a:solidFill>
                <a:latin typeface="comic"/>
              </a:rPr>
              <a:t>design insid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ach letter has a different </a:t>
            </a:r>
            <a:r>
              <a:rPr b="1" lang="en-GB" sz="2800" spc="-1" strike="noStrike">
                <a:solidFill>
                  <a:srgbClr val="ff6600"/>
                </a:solidFill>
                <a:latin typeface="Arial"/>
              </a:rPr>
              <a:t>set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GB" sz="2800" spc="-1" strike="noStrike">
                <a:solidFill>
                  <a:srgbClr val="00cc00"/>
                </a:solidFill>
                <a:latin typeface="Arial"/>
              </a:rPr>
              <a:t>col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de out the same colors going into th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anishing poi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may use colored pencils or water col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6600cc"/>
                </a:solidFill>
                <a:latin typeface="Arial"/>
              </a:rPr>
              <a:t>You only get one chance…so do it right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47920" y="1785960"/>
            <a:ext cx="7924680" cy="5072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191120" y="9907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790800" cy="4381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rving ISD</dc:creator>
  <dc:description/>
  <dc:language>en-US</dc:language>
  <cp:lastModifiedBy>Irving ISD</cp:lastModifiedBy>
  <cp:revision>0</cp:revision>
  <dc:subject/>
  <dc:title>Slide 1</dc:title>
</cp:coreProperties>
</file>